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C5D-3F20-4F71-AF40-731A1CBD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E1F-442D-452D-B6C3-ABDCDDF9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530-7DE2-4682-AE8F-F279CFBB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A4B-2F54-437D-96BC-FDADDA43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A1D8-FC26-458B-8093-CF323169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E15E-EDE0-4FBF-84F5-E6C3ABF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0B4D-CF0E-47E2-B885-6978EAB6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BF0D-B61D-4083-A671-2505FA1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1FB-8D56-477F-BCD9-43ED673A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6E62-E61D-4AE5-9295-3BC69C89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B8B-68A7-4853-B76E-C906C60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AA7-2397-4065-9F26-C52CE922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7A27-23EF-47A7-AEF9-8C2FF25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F424-3E3D-4830-A4C6-A9BF5F6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BBD3-65A6-4B9A-88AE-6A7FECC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EC95-08DD-4627-9378-8E9E9AEA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EBE-2419-4C01-8EFF-DA94CEB5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FE6-8663-4F48-A4F8-228FB3B1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643-AFB9-47DA-827C-719FD70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51C-7F40-4201-BDCF-CBDB159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0C7-C720-491E-B989-C90E9F3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3C1-3AEA-48E7-9CE2-0DC11684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590-24F6-4806-BAAF-AEBF3CF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C1C-7F9D-4E1D-917F-5058E305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BA1-CFD2-42EC-BF21-E9F64BFFB0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509-D3C4-43BD-8856-D7E8FF54F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крановые пу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балластного слоя для различных грунтов, типов рельсов, материалов балласта и други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величины давления на земляное полотно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рельсовых путей в план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и построения на чертеже опасных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зон возможного ограничения работы кран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6049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нагрузку от колеса на рельс, размер наиболее выступающей нижней части крана, максимальный рабочий вылет крюка и другие необходимые параметр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71520" y="887400"/>
            <a:ext cx="67294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порного эле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4381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абариты и материал опорного элемента могут быть выбраны из списка или указаны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46280" y="1098720"/>
            <a:ext cx="61786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286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рельсовых путей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0320" y="58086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подкрановых путей в плане необходимо указать размер колеи, тормозной путь, расстояние от оси крана до элемента торможения и выбрать тип тупикового упора. В случае необходимости можно указать  также размер рельсового звена и способ расчета длины пу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97160" y="887400"/>
            <a:ext cx="50990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пасных зо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27200" y="4483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оведения расчета опасной зоны необходимо указать наименьший и наибольший горизонтальный размер груза, а также максимальную высоту подъема нижней точки груза. После проведения расчета можно построить линию границы опасной зоны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666880" y="1197000"/>
            <a:ext cx="434052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защитного слоя и давления на земляное полотн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5400" y="57196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защитного слоя и давления на земляное полотно необходимо указать число ходовых колес крана и плотность балластного слоя, а также выбрать тип грунта для определения его параметров. Предусмотрена возможность ввода других параметров грунта, полученных, например, в результате натурных измер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050920" y="1204920"/>
            <a:ext cx="540252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подкрановых пут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427040" y="1317600"/>
            <a:ext cx="670104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2:25Z</dcterms:modified>
  <cp:revision>258</cp:revision>
  <dc:subject/>
  <dc:title>Слайд 1</dc:title>
</cp:coreProperties>
</file>